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FAA3-E80C-487A-A24D-491EE459F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17ED-8EB1-4C57-8D27-DD91970A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757A-E0E1-494A-8C6C-154F5ADB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E29C-693C-4D8B-8096-5966594E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3343-99A5-42C7-9522-C0A3110C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F9DC-7F01-4453-9129-C35557BA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E20A-0601-4276-8436-F73DBC68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4AB4-451C-4502-BB17-9DF6AA9E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0A2C-C8F6-4952-AC90-B851035D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B70F-3EDB-4B0A-BEC8-AB44CF19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710E-24D8-4892-B3BB-4B0D55B6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F16C-D9E5-42D6-A060-37642C1D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99E9-FF23-4BFD-9043-1BCC45005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http://indianaintellectualproperty.files.wordpress.com/2009/09/trademarknotice.jpg&amp;imgrefurl=http://oregonintellectualproperty.wordpress.com/2009/09/21/copyright-and-trademark-issues-for-blogs/&amp;usg=__Is7EmkwETUTRLKMw-DUv3IN6VaU=&amp;h=348&amp;w=348&amp;sz=22&amp;hl=en&amp;start=4&amp;itbs=1&amp;tbnid=O1f0_dsuZHlx_M:&amp;tbnh=120&amp;tbnw=120&amp;prev=/images%3Fq%3Dtrademark%26hl%3Den%26safe%3Dactive%26gbv%3D2%26tbs%3Disch: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ifeskills-consultancy.com/db5/00451/lifeskills-consultancy.com/_uimages/personality1.bmp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ton’s Self Information Portra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6206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68360" y="2421000"/>
            <a:ext cx="3024000" cy="2232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284720" y="2205000"/>
            <a:ext cx="38196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c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427640" y="2637000"/>
            <a:ext cx="38098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tit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it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lig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03640" y="2637000"/>
            <a:ext cx="253368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with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 2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ell with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35640" y="1844640"/>
            <a:ext cx="271476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titu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with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 thin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27640" y="2060640"/>
            <a:ext cx="38098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l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e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716360" y="1989000"/>
            <a:ext cx="2432160" cy="34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itu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thin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284720" y="2565360"/>
            <a:ext cx="42861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tial 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cartoon book"/>
          <p:cNvPicPr/>
          <p:nvPr/>
        </p:nvPicPr>
        <p:blipFill>
          <a:blip r:embed="rId1"/>
          <a:stretch/>
        </p:blipFill>
        <p:spPr>
          <a:xfrm>
            <a:off x="5003640" y="2852640"/>
            <a:ext cx="27910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lig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m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k gr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25718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2565360"/>
            <a:ext cx="33148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22:21:07Z</dcterms:created>
  <dc:creator>p.weis</dc:creator>
  <dc:description/>
  <dc:language>en-US</dc:language>
  <cp:lastModifiedBy>p.weis</cp:lastModifiedBy>
  <dcterms:modified xsi:type="dcterms:W3CDTF">2010-02-25T17:01:48Z</dcterms:modified>
  <cp:revision>5</cp:revision>
  <dc:subject/>
  <dc:title>Preston’s Self Information Portrait</dc:title>
</cp:coreProperties>
</file>